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54F-7939-4DC7-8D6B-B42A0609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A48-8919-4EAE-BA75-9D6402B8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95C-B76C-434D-A623-B60C21A8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86F-C25D-46A9-86ED-B57C7D48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73F2-44AC-4E5D-9B06-A31A76D1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5C17-CAB7-4321-AD97-03F3471C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28CA-DA0A-4E50-875F-A3E68133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1721-A073-445D-9BBD-65E550FB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71C2-3436-4403-B226-E2FBCD75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6A70-A3DB-427F-963E-1B9D7D32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0BF3-D5B6-460A-AD43-20942C52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D8A-8C2D-453B-85CD-5F35D512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4FA3-BFE0-425E-A61C-DDB7C2A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6289-F60C-4FA2-B3D6-6EE91AF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C424-C76F-4678-A9D3-3E06C47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540C-5BAF-4163-8036-BCEED900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18BF-9B88-4D7B-A26F-FC872715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482-9D12-4B94-9254-2528FB67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F14-2BF8-4FB1-9325-F7F533E5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16D-1C76-4D77-BB4B-3A23FABC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0DB-B810-450D-A7D3-5AE158AD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545-5D67-4142-BA1C-9C764EB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55B-ACD0-4612-A77B-AD9F67F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B7C-00ED-4B54-A8C8-2A22A8DC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7DD6-F59D-4C4B-B21B-6316D3F41E0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669B-DA18-41CD-94B1-EFE26600202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CP Psychology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The Brain and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ction 4Q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 of the nervous system (two part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entral Nervous System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ly composed of the brain and spinal ch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ipheral Nervous Sys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sed of the smaller branches of nerves in throughout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 system is protected by the skull, vertebrae or layers of sh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08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ln2_6_1" descr="The nervous system"/>
          <p:cNvPicPr/>
          <p:nvPr/>
        </p:nvPicPr>
        <p:blipFill>
          <a:blip r:embed="rId2"/>
          <a:srcRect l="0" t="0" r="15913" b="0"/>
          <a:stretch/>
        </p:blipFill>
        <p:spPr>
          <a:xfrm>
            <a:off x="152280" y="63360"/>
            <a:ext cx="89154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3808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2514600"/>
            <a:ext cx="763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05120"/>
            <a:ext cx="7924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ally speaking, you are your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r brain doesn’t work, you don’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about you (from personality to your favorite color) is coded into the billions of nerve cells found in your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those nerve cells are located in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724280"/>
            <a:ext cx="815328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rvous system sends messages much like a city’s telephon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les ar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erve fib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le connections (gaps) between nerve cells are call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ynaps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059920" y="152280"/>
            <a:ext cx="5587200" cy="4500360"/>
            <a:chOff x="2059920" y="152280"/>
            <a:chExt cx="5587200" cy="450036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7016" t="16667" r="8770" b="18179"/>
            <a:stretch/>
          </p:blipFill>
          <p:spPr>
            <a:xfrm>
              <a:off x="2810160" y="867240"/>
              <a:ext cx="4015440" cy="31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059920" y="2240640"/>
              <a:ext cx="78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92040" y="2240640"/>
              <a:ext cx="95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9080" y="152280"/>
              <a:ext cx="26208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urons in the bra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 with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other to form 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04440" y="3975480"/>
              <a:ext cx="30610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 brain learns by modify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ertain connections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ponse to 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80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25480"/>
            <a:ext cx="853452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 gets input 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recep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nsory)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 sends output throu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eff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otor)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uron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ings of cells that make up the nerves and relay electrical/chemical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urotransmit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hemicals) pass across the synapses to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excite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inhibit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transmitters are like valves in a water system allowing flow in on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neuron begins to “fire” it can’t be stopped, its “all or nothing” if stim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808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639800"/>
            <a:ext cx="800100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matic Nervous Sys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voluntary activities such as walking, t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utonomic Nervous Syste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involuntary activities such as heartbeat,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Sympathe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Parasympathetic (part of 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pathetic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s body for dealing with emergencies/strenuo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sympatheti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onserves energy to enhance recovery from strenuo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430" t="611" r="47595" b="90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54831" t="587" r="1370" b="877"/>
          <a:stretch/>
        </p:blipFill>
        <p:spPr>
          <a:xfrm>
            <a:off x="21337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380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95280" y="1676520"/>
            <a:ext cx="6553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r receptors (senses) li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es!  Activating a neuron will not always result in the same outcome.  Your nervous system is not a “light-switch” – one thing doesn’t always led to an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example / Hand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6-11-20T18:52:06Z</dcterms:modified>
  <cp:revision>157</cp:revision>
  <dc:subject/>
  <dc:title>No Slide Title</dc:title>
</cp:coreProperties>
</file>